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07C-A620-4BC3-8278-ABE698E57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41F-5816-4DC2-A726-0FCE49931A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A45-EBC0-4A90-B960-09B5DE98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43C-97D2-4EAC-A64C-3CBFCDD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371-029F-4424-B7E4-AFDC5CA8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7B2-BA0E-449B-AB2C-F9E2CFE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710B-77A9-41EB-AA41-24974D7D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765-07C6-46DF-819A-AB700280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7A6-307E-4934-9E59-C908D82C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FF4-9384-4244-B363-9BB46E82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4442-559A-4319-8EF2-584E05F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FB1B-14A0-4503-B01E-9D2CE6D9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C339-86CB-4187-8CFD-B5F6F7B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B8D-7E44-49ED-B08B-2F614B8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B854-6E2B-4912-8B7E-D42E6B9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CC1D-7066-48C3-8A73-5571002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14E-6B0A-4926-BA5A-E5211F0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0B5-6621-4C8F-A7B0-322EEA8E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00B8-0867-4EF3-8EAE-417D185E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C628-D30A-4935-B042-69A94B1F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1847-4FC5-455D-88FE-B86C8CF1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A93D-37D0-4359-9E99-9934659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D70D-E5D7-4B47-A226-4550E3D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111D-C68C-461E-97D2-3A64D2A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E4B-6808-4B92-8161-690A6842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B538-D7AC-425D-A7BE-D191B36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AA2D-BA9E-4578-BBEC-4D7CC579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F9FA-277D-4464-B142-EA4737D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7834-CA13-44C0-A062-577ED02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8860-1778-4E7B-90AC-831793C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BA5D-0ECA-4D1A-806D-35199B0B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E996-7D96-4073-9213-DAD62F17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69BA-8330-40AB-B34A-0ACB8C8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03F7-44D1-4FDF-9005-D288EA2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B50E-D0DB-43A0-91E1-E56CCE2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3C9-8A34-475C-9B09-E12BB124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9D23-1F6E-4E18-86D9-C8CF738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59CE-2B02-4448-BAB6-6A16EC04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FE0A-0BEA-4FF2-A500-30DDEA7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89C9-2EF2-40F4-B2C1-898AFB3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A159-2ADD-4B72-9663-42C3FD7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7FC7-432D-447D-A5B7-8C997F8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2895-E88E-442B-9809-770EF91C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55D4-2234-415D-8DAB-ACB67BDD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0BE1-39F8-47F5-B72E-02F16DCA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10B-28C9-4EE2-A300-93F1675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9BC-2AF0-4921-A5D6-B954F51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232-3EAA-401D-A3CF-8D825C3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FC4-7E9E-4B29-B266-77A970D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B66-32C5-45C0-BA2E-A84DFD5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75EA-B89F-4B5C-8841-CCD5B9BC54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19D3-92BD-4499-A648-23061F95B7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424-A64A-4C98-B520-4939F75DF90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83A-AE91-46FF-B06C-F629386F8E4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33440" y="1365120"/>
            <a:ext cx="8472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Циклон сепаратора А1-БИС-12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58920" y="2143080"/>
            <a:ext cx="64152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Технологическая схема процесса в сепараторах А1-БИС-12 и А1-БИС-100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979640" y="2327400"/>
            <a:ext cx="54720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Очищенное на ситах от крупных и мелких примесей зерно поступает на вибролоток 10 и далее в пневмосепарирующий канал 6; при прохождении воздуха через поток зерна легкие примеси выделяются из зерновой смеси и выносятся воздухом через канал в горизонтальный циклон. С помощью дроссельного клапана 7 и подвижной стенки 8 регулируется аэродинамический режим, обеспечивающий эффективное удаление легких примесей из сепаратора. Очищенное зерно из пневмосепарирующего канала через отверстие в полу по самотечным трубам идет на дальнейшую обработк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 время работы сепаратора под нагрузкой особое внимание обращают на равномерность подачи зерна в ситовой корпус, равномерность распределения зерна по ширине сортировочных сит, плавность хода ситового корпуса, отсутствие подпора зерна и чрезмерного пыления, наличие подпора зерна в питающих коробках 11 над вибролотками 10, эффективность сепарирования в пневмосепарирующем канале, отсутствие забиваемости сит зерном и примеся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4617b"/>
                </a:solidFill>
                <a:latin typeface="Calibri"/>
              </a:rPr>
              <a:t>Техническая характеристика сепараторов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1484280"/>
          <a:ext cx="8229600" cy="5091120"/>
        </p:xfrm>
        <a:graphic>
          <a:graphicData uri="http://schemas.openxmlformats.org/drawingml/2006/table">
            <a:tbl>
              <a:tblPr/>
              <a:tblGrid>
                <a:gridCol w="4392720"/>
                <a:gridCol w="1871640"/>
                <a:gridCol w="196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1-БИС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1-БИС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Производительность, т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Эффективность очистк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Установленная мощность, к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Масса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Габаритные размеры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00 х 365 х  1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00 х 2520 х 1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Частота колебаний ситового кузова, колеб/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диус колебания ситового кузова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+/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+/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сход воздуха, м3/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Размер решет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0 х 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0 х 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Площадь сит, м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Число ситовых рамок в яру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Общее число ситовых рам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User\Desktop\konstru2.jpg"/>
          <p:cNvPicPr/>
          <p:nvPr/>
        </p:nvPicPr>
        <p:blipFill>
          <a:blip r:embed="rId1"/>
          <a:stretch/>
        </p:blipFill>
        <p:spPr>
          <a:xfrm>
            <a:off x="826920" y="260280"/>
            <a:ext cx="7058160" cy="4022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User\Desktop\konstru2 - копия.jpg"/>
          <p:cNvPicPr/>
          <p:nvPr/>
        </p:nvPicPr>
        <p:blipFill>
          <a:blip r:embed="rId2"/>
          <a:stretch/>
        </p:blipFill>
        <p:spPr>
          <a:xfrm>
            <a:off x="1422360" y="3854520"/>
            <a:ext cx="6029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Определение технологических параметров сепаратор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изводительность машины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пределяется по зависимост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Q=q*B</a:t>
            </a:r>
            <a:r>
              <a:rPr b="1" i="1" lang="kk-KZ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 удельная нагрузка на 1 м ширины сита, кг/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ширина сита, 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764640"/>
            <a:ext cx="85690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 удельной нагрузк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зависит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толщина  слоя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а, движущегося по ситу. Для определения этой толщины рекомендована формул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h’ = q/ V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ср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1" i="1" lang="el-GR" sz="26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* 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р 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редняя скорость перемещения зерна по сит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i="1" lang="el-GR" sz="26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– объемная масса зерна, кг/м3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- коэффициент разрыхления зернов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меси, движущейся по ситу (для пшеницы=1,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Эффективность процесса сепарирования Е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%) определяется по формул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= ((B-Ba) * 100 )/A = B/A * (1- a) *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де: А- масса отделимых примесей в исход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осмеси, 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- масса отходов, кг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- относительное содержание нормальн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ерна в отходах, 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оздушно-ситовые сепараторы-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о агрегаты (комбинация воздушного и ситового сепараторов). Комбинирование 2-ух сепараторов в одном позволяет не только упростить технологическую схему и избежать лишних транспортных операций, но и повысить техно-экономические показатели (удельные энергозатраты, удельную металлоемкость, занимаемую площадь помещений и т.д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оздушно-ситовые сепараторы предназначены для отделения от зерна примесей, отличающихся шириной, толщиной и аэродинамическими свойств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Классификация воздушно-ситовых сепараторо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C:\Users\User\Desktop\Отсканировано 22.02.2012 17-13.jpg"/>
          <p:cNvPicPr/>
          <p:nvPr/>
        </p:nvPicPr>
        <p:blipFill>
          <a:blip r:embed="rId1"/>
          <a:stretch/>
        </p:blipFill>
        <p:spPr>
          <a:xfrm>
            <a:off x="1158840" y="2039760"/>
            <a:ext cx="669132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ти сепараторы использую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предварительной очистки зерна на элеваторах (как ворохоочистители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очистки зерна от сорных примесей на элеваторах и крупозаво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первой технологической очистки зерна на мукомольных заво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и выделении мелкого зерна для фуражных ц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Сепараторы А1-БИС-12, А1-БИС-100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Сепараторы типа А1-БИС-100, А1-БИС-12 предназначены для первичной очистки зерна пшеницы (и других культур) от примесей, отличающихся шириной, толщиной и аэродинамическими свойствами, с помощью решет и воздушного пото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Сепараторы для первичной очистки зерна эксплуатируются в зерноподготовительных отделениях и на элеваторах мукомольных заводов, в том числе, в составе комплектного оборудования для вновь строящихся мельниц; конструкция сепараторов очистки зерна марки А1-БИС-12 подразумевает под собой комплектацию горизонтальными циклонами со шлюзовыми затворами для вновь строящихся комплектных мельниц, а сепараторы А1-БИС-12-02, укомплектованны горизонтальными циклонами с противоподсосными клапанами для действующих мельниц. Сепараторы для очистки зерна марки А1-БИС-100 выпускаются без циклон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4617b"/>
                </a:solidFill>
                <a:latin typeface="Calibri"/>
              </a:rPr>
              <a:t>Сепаратор А1-БИС-12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166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86840" y="836280"/>
            <a:ext cx="892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Сепараторы типа А1-БИС-12 состоят из двухсекционного ситового корпуса, подвешенного к станине на гибких подвесках, и вертикального пневмосепарирующего канала. В корпусе сепаратора А1-БИС-12 установлены выдвигающиеся рамы с сортировочными 11 и подсевными 10 ситами, зафиксированные эксцентриковыми механизмами. Ситовые рамы продольными и поперечными брусками разделены на ячейки, в каждой из которых имеется по два резиновых шарика 13, предназначенных для очистки сит. К нижней плоскости ситовой рамы прикреплены сетчатые фордоны.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а передней стенке ситового корпуса установлен электродвигатель 9, который посредством клиноременной передачи приводит во вращение шкив 8 с дебалансным грузом, обеспечивающий круговое поступательное движение ситового корпуса. В верхней части станины установлен приемный патрубок 12 для поступления исходного зерна и патрубок 14 для подключения к аспирационной сети. Очищенное зерно выходит через выпускной канал 3. Для вывода крупных примесей служит лоток 7, для мелких — лоток 6. Со стороны сходовой части корпуса установлен пневмосепарирующий канал 2 с вибролотком 4, предназначенным для подачи зерна в кана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76464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Для наиболее эффективного выделения легких примесей в пневмосепарирующем канале регулируют амплитуду колебаний вибролотка с помощью вибратора 5, величину вылета его в канал, размер выходной щели и скорость воздушного потока (положением подвижной стенки 1) в верхней и нижней частях канала, а также расход воздух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В комплект  сепаратора  А1-БИС-12 входит специальный горизонтальный циклон, предназначенный для осаждения относов и устанавливаемый после сепаратора. Циклон представляет собой усеченный конус 2 (рис.), внутри которого на общей горизонтальной оси расположены два внутренних конуса 3, 4 меньших размеров. Они сварены между собой большими основаниями так, что образованный между конусами кольцевой канал вначале постепенно сужается, а затем резко расширяется, переходя в расширительную камеру 5, присоединенную к большему основанию наружного конуса 2. С противоположной стороны камера 5 имеет выходной патрубок 6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Во входной части циклона приварены четыре криволинейные лопасти 1, обеспечивающие закручивание воздушного потока в кольцевом канале. Снизу к расширительной камере присоединяют шлюзовой затвор 7 либо противоподсосный клапа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ринцип работы сепараторов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следующий: очищаемое зерно из приемного патрубка 1 самотеком поступает в ситовой корпус на распределительное днище 2, крупные примеси (сход с сортировочного сита 3) выводятся через фартук 5 по лотку 9 из сепаратора, а смесь зерна с мелкими примесями проходом через сортировочное сито 3 направляется на подсевное сито 4. Мелкие примеси (проход подсевного сита) поступают в лоток 12 и удаляются из сепарато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0:58:23Z</dcterms:created>
  <dc:creator>User</dc:creator>
  <dc:description/>
  <dc:language>en-US</dc:language>
  <cp:lastModifiedBy>User</cp:lastModifiedBy>
  <cp:lastPrinted>2012-02-22T13:03:01Z</cp:lastPrinted>
  <dcterms:modified xsi:type="dcterms:W3CDTF">2012-02-22T15:45:05Z</dcterms:modified>
  <cp:revision>9</cp:revision>
  <dc:subject/>
  <dc:title>Воздушно-ситовые сепараторы. Сепараторы А1-БИС-12, А1-БИС-100.</dc:title>
</cp:coreProperties>
</file>